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30080" y="6059520"/>
            <a:ext cx="19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© 2000-2001 Jesse James Garret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http://www.jjg.net/ia/visvocab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838080" y="914400"/>
            <a:ext cx="914400" cy="68724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" name=""/>
          <p:cNvGrpSpPr/>
          <p:nvPr/>
        </p:nvGrpSpPr>
        <p:grpSpPr>
          <a:xfrm>
            <a:off x="2133720" y="914400"/>
            <a:ext cx="1003320" cy="764640"/>
            <a:chOff x="2133720" y="914400"/>
            <a:chExt cx="1003320" cy="764640"/>
          </a:xfrm>
        </p:grpSpPr>
        <p:sp>
          <p:nvSpPr>
            <p:cNvPr id="39" name=""/>
            <p:cNvSpPr/>
            <p:nvPr/>
          </p:nvSpPr>
          <p:spPr>
            <a:xfrm>
              <a:off x="2222640" y="992160"/>
              <a:ext cx="914400" cy="686880"/>
            </a:xfrm>
            <a:prstGeom prst="flowChartProcess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178000" y="947520"/>
              <a:ext cx="914400" cy="686880"/>
            </a:xfrm>
            <a:prstGeom prst="flowChartProcess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2133720" y="914400"/>
              <a:ext cx="914400" cy="687240"/>
            </a:xfrm>
            <a:prstGeom prst="flowChartProcess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" name=""/>
          <p:cNvGrpSpPr/>
          <p:nvPr/>
        </p:nvGrpSpPr>
        <p:grpSpPr>
          <a:xfrm>
            <a:off x="3886200" y="5181480"/>
            <a:ext cx="914400" cy="685800"/>
            <a:chOff x="3886200" y="5181480"/>
            <a:chExt cx="914400" cy="685800"/>
          </a:xfrm>
        </p:grpSpPr>
        <p:sp>
          <p:nvSpPr>
            <p:cNvPr id="43" name=""/>
            <p:cNvSpPr/>
            <p:nvPr/>
          </p:nvSpPr>
          <p:spPr>
            <a:xfrm>
              <a:off x="3886200" y="5181480"/>
              <a:ext cx="119160" cy="685800"/>
            </a:xfrm>
            <a:custGeom>
              <a:avLst/>
              <a:gdLst>
                <a:gd name="textAreaLeft" fmla="*/ 34920 w 119160"/>
                <a:gd name="textAreaRight" fmla="*/ 119520 w 11916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0"/>
                    <a:pt x="0" y="0"/>
                  </a:cubicBezTo>
                  <a:lnTo>
                    <a:pt x="0" y="21600"/>
                  </a:lnTo>
                  <a:cubicBezTo>
                    <a:pt x="0" y="21600"/>
                    <a:pt x="108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681440" y="5181480"/>
              <a:ext cx="119160" cy="685800"/>
            </a:xfrm>
            <a:custGeom>
              <a:avLst/>
              <a:gdLst>
                <a:gd name="textAreaLeft" fmla="*/ 0 w 119160"/>
                <a:gd name="textAreaRight" fmla="*/ 83520 w 11916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0"/>
                    <a:pt x="21600" y="0"/>
                  </a:cubicBezTo>
                  <a:lnTo>
                    <a:pt x="21600" y="21600"/>
                  </a:lnTo>
                  <a:cubicBezTo>
                    <a:pt x="21600" y="21600"/>
                    <a:pt x="108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3886200" y="4164120"/>
            <a:ext cx="914400" cy="689040"/>
            <a:chOff x="3886200" y="4164120"/>
            <a:chExt cx="914400" cy="689040"/>
          </a:xfrm>
        </p:grpSpPr>
        <p:sp>
          <p:nvSpPr>
            <p:cNvPr id="46" name=""/>
            <p:cNvSpPr/>
            <p:nvPr/>
          </p:nvSpPr>
          <p:spPr>
            <a:xfrm rot="5400000">
              <a:off x="4283640" y="3766320"/>
              <a:ext cx="119160" cy="914400"/>
            </a:xfrm>
            <a:custGeom>
              <a:avLst/>
              <a:gdLst>
                <a:gd name="textAreaLeft" fmla="*/ 34920 w 119160"/>
                <a:gd name="textAreaRight" fmla="*/ 119520 w 11916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0"/>
                    <a:pt x="0" y="0"/>
                  </a:cubicBezTo>
                  <a:lnTo>
                    <a:pt x="0" y="21600"/>
                  </a:lnTo>
                  <a:cubicBezTo>
                    <a:pt x="0" y="21600"/>
                    <a:pt x="108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rot="5400000">
              <a:off x="4283640" y="4336200"/>
              <a:ext cx="119160" cy="914400"/>
            </a:xfrm>
            <a:custGeom>
              <a:avLst/>
              <a:gdLst>
                <a:gd name="textAreaLeft" fmla="*/ 0 w 119160"/>
                <a:gd name="textAreaRight" fmla="*/ 83520 w 11916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0"/>
                    <a:pt x="21600" y="0"/>
                  </a:cubicBezTo>
                  <a:lnTo>
                    <a:pt x="21600" y="21600"/>
                  </a:lnTo>
                  <a:cubicBezTo>
                    <a:pt x="21600" y="21600"/>
                    <a:pt x="108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5486400" y="914400"/>
            <a:ext cx="1371600" cy="1371600"/>
          </a:xfrm>
          <a:prstGeom prst="flowChartAlternate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162920" y="914400"/>
            <a:ext cx="1461600" cy="1461600"/>
            <a:chOff x="7162920" y="914400"/>
            <a:chExt cx="1461600" cy="1461600"/>
          </a:xfrm>
        </p:grpSpPr>
        <p:sp>
          <p:nvSpPr>
            <p:cNvPr id="50" name=""/>
            <p:cNvSpPr/>
            <p:nvPr/>
          </p:nvSpPr>
          <p:spPr>
            <a:xfrm>
              <a:off x="7257240" y="1005480"/>
              <a:ext cx="1367280" cy="1370520"/>
            </a:xfrm>
            <a:prstGeom prst="flowChartAlternateProcess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210080" y="960120"/>
              <a:ext cx="1367280" cy="1370520"/>
            </a:xfrm>
            <a:prstGeom prst="flowChartAlternateProcess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162920" y="914400"/>
              <a:ext cx="1367640" cy="1370520"/>
            </a:xfrm>
            <a:prstGeom prst="flowChartAlternateProcess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3809880" y="2286000"/>
            <a:ext cx="457200" cy="457200"/>
          </a:xfrm>
          <a:prstGeom prst="blockArc">
            <a:avLst>
              <a:gd name="adj1" fmla="val 10799999"/>
              <a:gd name="adj2" fmla="val 1"/>
              <a:gd name="adj3" fmla="val 49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86200" y="3124080"/>
            <a:ext cx="914400" cy="687600"/>
          </a:xfrm>
          <a:prstGeom prst="octagon">
            <a:avLst>
              <a:gd name="adj" fmla="val 20134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86400" y="2590920"/>
            <a:ext cx="1371600" cy="1371600"/>
          </a:xfrm>
          <a:prstGeom prst="octagon">
            <a:avLst>
              <a:gd name="adj" fmla="val 1196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38880" y="2590920"/>
            <a:ext cx="1371600" cy="1371600"/>
          </a:xfrm>
          <a:prstGeom prst="flowChartAlternateProcess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16200000">
            <a:off x="4456800" y="913320"/>
            <a:ext cx="457200" cy="45900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33880" y="1658880"/>
            <a:ext cx="457200" cy="338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16200000">
            <a:off x="3810600" y="913320"/>
            <a:ext cx="457200" cy="459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" name=""/>
          <p:cNvCxnSpPr/>
          <p:nvPr/>
        </p:nvCxnSpPr>
        <p:spPr>
          <a:xfrm flipV="1" rot="10800000">
            <a:off x="5637960" y="4952520"/>
            <a:ext cx="1080" cy="9151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61" name=""/>
          <p:cNvCxnSpPr/>
          <p:nvPr/>
        </p:nvCxnSpPr>
        <p:spPr>
          <a:xfrm flipV="1" rot="10800000">
            <a:off x="6577920" y="4952520"/>
            <a:ext cx="1080" cy="915120"/>
          </a:xfrm>
          <a:prstGeom prst="bentConnector2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62" name=""/>
          <p:cNvCxnSpPr/>
          <p:nvPr/>
        </p:nvCxnSpPr>
        <p:spPr>
          <a:xfrm flipV="1" rot="10800000">
            <a:off x="7517520" y="4952520"/>
            <a:ext cx="1080" cy="91512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63" name=""/>
          <p:cNvCxnSpPr/>
          <p:nvPr/>
        </p:nvCxnSpPr>
        <p:spPr>
          <a:xfrm flipV="1" rot="10800000">
            <a:off x="8457480" y="4952520"/>
            <a:ext cx="1080" cy="915120"/>
          </a:xfrm>
          <a:prstGeom prst="bentConnector2">
            <a:avLst/>
          </a:prstGeom>
          <a:ln w="12600">
            <a:solidFill>
              <a:srgbClr val="000000"/>
            </a:solidFill>
            <a:prstDash val="dash"/>
            <a:miter/>
            <a:tailEnd len="med" type="stealth" w="med"/>
          </a:ln>
        </p:spPr>
      </p:cxnSp>
      <p:sp>
        <p:nvSpPr>
          <p:cNvPr id="64" name=""/>
          <p:cNvSpPr/>
          <p:nvPr/>
        </p:nvSpPr>
        <p:spPr>
          <a:xfrm rot="16200000">
            <a:off x="990720" y="2284200"/>
            <a:ext cx="685800" cy="685800"/>
          </a:xfrm>
          <a:prstGeom prst="foldedCorner">
            <a:avLst>
              <a:gd name="adj" fmla="val 25004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34320" y="4419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0800000">
            <a:off x="4457880" y="2285640"/>
            <a:ext cx="457200" cy="228600"/>
          </a:xfrm>
          <a:custGeom>
            <a:avLst/>
            <a:gdLst>
              <a:gd name="textAreaLeft" fmla="*/ 120600 w 457200"/>
              <a:gd name="textAreaRight" fmla="*/ 336600 w 457200"/>
              <a:gd name="textAreaTop" fmla="*/ 60480 h 228600"/>
              <a:gd name="textAreaBottom" fmla="*/ 1681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475" y="21600"/>
                </a:lnTo>
                <a:lnTo>
                  <a:pt x="7125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2273400" y="2284200"/>
            <a:ext cx="774720" cy="763560"/>
            <a:chOff x="2273400" y="2284200"/>
            <a:chExt cx="774720" cy="763560"/>
          </a:xfrm>
        </p:grpSpPr>
        <p:sp>
          <p:nvSpPr>
            <p:cNvPr id="68" name=""/>
            <p:cNvSpPr/>
            <p:nvPr/>
          </p:nvSpPr>
          <p:spPr>
            <a:xfrm rot="16200000">
              <a:off x="2362320" y="2361960"/>
              <a:ext cx="685800" cy="685800"/>
            </a:xfrm>
            <a:prstGeom prst="foldedCorner">
              <a:avLst>
                <a:gd name="adj" fmla="val 25004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2317680" y="2317680"/>
              <a:ext cx="685800" cy="685800"/>
            </a:xfrm>
            <a:prstGeom prst="foldedCorner">
              <a:avLst>
                <a:gd name="adj" fmla="val 25004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16200000">
              <a:off x="2273400" y="2284200"/>
              <a:ext cx="685800" cy="685800"/>
            </a:xfrm>
            <a:prstGeom prst="foldedCorner">
              <a:avLst>
                <a:gd name="adj" fmla="val 25004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2144880" y="42768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76400" y="5724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" name=""/>
          <p:cNvCxnSpPr>
            <a:endCxn id="71" idx="0"/>
          </p:cNvCxnSpPr>
          <p:nvPr/>
        </p:nvCxnSpPr>
        <p:spPr>
          <a:xfrm>
            <a:off x="1687680" y="4274640"/>
            <a:ext cx="457560" cy="2520"/>
          </a:xfrm>
          <a:prstGeom prst="bentConnector3">
            <a:avLst>
              <a:gd name="adj1" fmla="val 24724"/>
            </a:avLst>
          </a:prstGeom>
          <a:ln w="1260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74" name=""/>
          <p:cNvCxnSpPr>
            <a:endCxn id="72" idx="0"/>
          </p:cNvCxnSpPr>
          <p:nvPr/>
        </p:nvCxnSpPr>
        <p:spPr>
          <a:xfrm rot="16200000">
            <a:off x="1747800" y="5495760"/>
            <a:ext cx="457560" cy="36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75" name=""/>
          <p:cNvSpPr/>
          <p:nvPr/>
        </p:nvSpPr>
        <p:spPr>
          <a:xfrm>
            <a:off x="912240" y="3505320"/>
            <a:ext cx="20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horizontal gluedo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is attached to the end of this arro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2240" y="4670280"/>
            <a:ext cx="20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vertical gluedo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is attached to the end of this arro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6T19:07:16Z</dcterms:created>
  <dc:creator>Jesse James Garrett</dc:creator>
  <dc:description>http://www.jjg.net/ia/visvocab/</dc:description>
  <dc:language>en-US</dc:language>
  <cp:lastModifiedBy>Jesse James Garrett</cp:lastModifiedBy>
  <dcterms:modified xsi:type="dcterms:W3CDTF">2001-01-29T23:08:35Z</dcterms:modified>
  <cp:revision>14</cp:revision>
  <dc:subject/>
  <dc:title>Garrett IA Diagram shape library</dc:title>
</cp:coreProperties>
</file>